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15.jpeg" ContentType="image/jpeg"/>
  <Override PartName="/ppt/media/chomp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yahoo02.wav" ContentType="audio/x-wav"/>
  <Override PartName="/ppt/media/image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BARKS.WAV" ContentType="audio/x-wav"/>
  <Override PartName="/ppt/media/image18.jpeg" ContentType="image/jpeg"/>
  <Override PartName="/ppt/media/excellnt.wav" ContentType="audio/x-wav"/>
  <Override PartName="/ppt/media/CAT_MEOW.WAV" ContentType="audio/x-wav"/>
  <Override PartName="/ppt/media/image17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6.jpeg" ContentType="image/jpeg"/>
  <Override PartName="/ppt/media/boingg.wav" ContentType="audio/x-wav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F0E-1405-4D0F-B630-C951891C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209-8E88-4851-B7DA-D13B57297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B2B-36DD-46BF-8FAE-DF37415FBB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402B-F420-4C0A-9CC4-134496005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9F6-290A-4744-A346-40FE03D47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D910-7858-4E0B-BB03-69B17BA39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C73-26E1-4BAC-94CF-514018F058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C67-FF8C-4D5C-B889-E96FD88E8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614-7054-4CAB-BE11-558058B82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CED-A5C9-40B6-AF40-C2A9749AA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48F-2E26-4314-8794-D500EF8879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F42-FA9F-43C9-A932-9595A7F0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625-87F8-49EC-8C89-F57967C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C95-D329-42DD-9461-6CEB998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ADC-16F0-4C0B-9A24-A6FC543A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C88-9C83-4E1F-8FD3-8CF67AFD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43B-997C-456E-B3E4-4CCC3BC5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FFEA-6C88-4462-98F1-C432FA4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E033-DFB1-4E5D-B410-2C7D355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26D6-14CB-4DC6-BFF6-A5C1C33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489A-8656-4740-8728-AC5246C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2F9-9C2E-4757-8430-C893466C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FCA-F49E-4C2C-B0F1-D9711B9F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8C7-DE1E-45EF-ACBC-C7E4824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B67-2080-4469-AD6E-45A5744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38AA-B1B0-4A3E-8DE3-D9F9F18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81C-4067-4700-AEE3-293A0C5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4BE3-01D3-4DAE-9E2E-BF5F719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698C-E787-4292-8E62-31694A15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E5C-88E4-400C-B4F7-D47E56B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635-1FCB-4552-96F7-8407353C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83A-7EF6-4EBA-B330-4E245BF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C7D-54D5-49C5-8AD5-3F0F781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8E5-F45A-4609-A5D1-B34CDB4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542-98B6-4F6A-9179-D5321EA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B5A-76F4-470B-AE93-BBE34B529B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D24-FEBE-4E98-8A52-395CB1D95B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52280" y="228600"/>
            <a:ext cx="8915400" cy="2913840"/>
          </a:xfrm>
          <a:prstGeom prst="rect">
            <a:avLst/>
          </a:prstGeom>
          <a:solidFill>
            <a:srgbClr val="f2f2f2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79646"/>
                </a:solidFill>
                <a:uFillTx/>
                <a:latin typeface="Eras Bold ITC"/>
                <a:ea typeface="바탕"/>
              </a:rPr>
              <a:t>DO NOW!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79646"/>
                </a:solidFill>
                <a:latin typeface="Eras Bold ITC"/>
                <a:ea typeface="바탕"/>
              </a:rPr>
              <a:t>1.) What is a Pronoun? (Define)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79646"/>
                </a:solidFill>
                <a:latin typeface="Eras Bold ITC"/>
                <a:ea typeface="바탕"/>
              </a:rPr>
              <a:t>2.) Write down 3 examples of pronoun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://s3.vidimg.popscreen.com/original/30/XzlpN1hpMUZOTE0x_o_school-house-rock---rufus-xavier-sarsaparilla-pronoun.jpg"/>
          <p:cNvPicPr/>
          <p:nvPr/>
        </p:nvPicPr>
        <p:blipFill>
          <a:blip r:embed="rId1"/>
          <a:stretch/>
        </p:blipFill>
        <p:spPr>
          <a:xfrm>
            <a:off x="2471760" y="3962520"/>
            <a:ext cx="4309920" cy="2628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Louise fixed their 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Louise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200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52280" y="914400"/>
            <a:ext cx="8915400" cy="2074680"/>
          </a:xfrm>
          <a:prstGeom prst="rect">
            <a:avLst/>
          </a:prstGeom>
          <a:solidFill>
            <a:srgbClr val="f2f2f2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79646"/>
                </a:solidFill>
                <a:latin typeface="Eras Bold ITC"/>
                <a:ea typeface="바탕"/>
              </a:rPr>
              <a:t>INDEPENDENT READING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http://blog.princetontutoring.com/wp-content/uploads/2014/05/read.jpg"/>
          <p:cNvPicPr/>
          <p:nvPr/>
        </p:nvPicPr>
        <p:blipFill>
          <a:blip r:embed="rId1"/>
          <a:stretch/>
        </p:blipFill>
        <p:spPr>
          <a:xfrm>
            <a:off x="301680" y="3352680"/>
            <a:ext cx="3736800" cy="3222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  <p:pic>
        <p:nvPicPr>
          <p:cNvPr id="131" name="Picture 4" descr="http://griggscountypubliclibrary.com/possumread.jpg"/>
          <p:cNvPicPr/>
          <p:nvPr/>
        </p:nvPicPr>
        <p:blipFill>
          <a:blip r:embed="rId2"/>
          <a:stretch/>
        </p:blipFill>
        <p:spPr>
          <a:xfrm>
            <a:off x="4876920" y="3406680"/>
            <a:ext cx="3736800" cy="3222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ular Callout 4"/>
          <p:cNvSpPr/>
          <p:nvPr/>
        </p:nvSpPr>
        <p:spPr>
          <a:xfrm>
            <a:off x="5105520" y="1905120"/>
            <a:ext cx="3809880" cy="3809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noun Agreement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27, 2014</a:t>
            </a:r>
            <a:br>
              <a:rPr sz="24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41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ronouns pronoun agreement grammar Grammar Bytes! Robin L. Simmons</cp:keywords>
  <dc:language>en-US</dc:language>
  <cp:lastModifiedBy>Shettle, Meghan</cp:lastModifiedBy>
  <dcterms:modified xsi:type="dcterms:W3CDTF">2014-10-26T23:06:15Z</dcterms:modified>
  <cp:revision>309</cp:revision>
  <dc:subject/>
  <dc:title>Pronoun Agreement</dc:title>
</cp:coreProperties>
</file>